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574588" cy="20193000"/>
  <p:notesSz cx="14451013" cy="20318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3AE46-8361-46A6-B6D9-7D812A9149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560" y="805320"/>
            <a:ext cx="11316960" cy="33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59320"/>
                <a:tab algn="l" pos="8918640"/>
              </a:tabLst>
            </a:pP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8560" y="4725000"/>
            <a:ext cx="11316960" cy="55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4459320"/>
                <a:tab algn="l" pos="89186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8560" y="10842120"/>
            <a:ext cx="11316960" cy="55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4459320"/>
                <a:tab algn="l" pos="89186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FF5F5-E0B6-4CA6-8E00-4EFE71BC7F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8560" y="805320"/>
            <a:ext cx="11316960" cy="33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59320"/>
                <a:tab algn="l" pos="8918640"/>
              </a:tabLst>
            </a:pP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4725000"/>
            <a:ext cx="5522400" cy="55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4459320"/>
                <a:tab algn="l" pos="89186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427440" y="4725000"/>
            <a:ext cx="5522400" cy="55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4459320"/>
                <a:tab algn="l" pos="89186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560" y="10842120"/>
            <a:ext cx="5522400" cy="55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4459320"/>
                <a:tab algn="l" pos="89186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427440" y="10842120"/>
            <a:ext cx="5522400" cy="55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4459320"/>
                <a:tab algn="l" pos="89186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E0709-DAF8-405B-8AF3-5DC7AA1B6B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28560" y="805320"/>
            <a:ext cx="11316960" cy="33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59320"/>
                <a:tab algn="l" pos="8918640"/>
              </a:tabLst>
            </a:pP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28560" y="4725000"/>
            <a:ext cx="3643920" cy="55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4459320"/>
                <a:tab algn="l" pos="89186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455000" y="4725000"/>
            <a:ext cx="3643920" cy="55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4459320"/>
                <a:tab algn="l" pos="89186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281440" y="4725000"/>
            <a:ext cx="3643920" cy="55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4459320"/>
                <a:tab algn="l" pos="89186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8560" y="10842120"/>
            <a:ext cx="3643920" cy="55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4459320"/>
                <a:tab algn="l" pos="89186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455000" y="10842120"/>
            <a:ext cx="3643920" cy="55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4459320"/>
                <a:tab algn="l" pos="89186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281440" y="10842120"/>
            <a:ext cx="3643920" cy="55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4459320"/>
                <a:tab algn="l" pos="89186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07832-6435-4594-97CA-69FF242B26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805320"/>
            <a:ext cx="11316960" cy="33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59320"/>
                <a:tab algn="l" pos="8918640"/>
              </a:tabLst>
            </a:pP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28560" y="4725000"/>
            <a:ext cx="11316960" cy="117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74"/>
              </a:spcBef>
              <a:buNone/>
              <a:tabLst>
                <a:tab algn="l" pos="0"/>
                <a:tab algn="l" pos="4459320"/>
                <a:tab algn="l" pos="89186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DAA43-976E-491B-B76E-ACF3E4012F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805320"/>
            <a:ext cx="11316960" cy="33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59320"/>
                <a:tab algn="l" pos="8918640"/>
              </a:tabLst>
            </a:pP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4725000"/>
            <a:ext cx="11316960" cy="117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4459320"/>
                <a:tab algn="l" pos="89186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0FECF-3893-4CD8-B2CA-C8A8902D08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805320"/>
            <a:ext cx="11316960" cy="33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59320"/>
                <a:tab algn="l" pos="8918640"/>
              </a:tabLst>
            </a:pP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560" y="4725000"/>
            <a:ext cx="5522400" cy="117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4459320"/>
                <a:tab algn="l" pos="89186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427440" y="4725000"/>
            <a:ext cx="5522400" cy="117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4459320"/>
                <a:tab algn="l" pos="89186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8DEC1-00D3-4FE3-8C1F-7E7E5B7B37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805320"/>
            <a:ext cx="11316960" cy="33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59320"/>
                <a:tab algn="l" pos="8918640"/>
              </a:tabLst>
            </a:pP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BC0EF-6912-4B86-8FF2-1C91C53CD2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28560" y="805320"/>
            <a:ext cx="11316960" cy="156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74"/>
              </a:spcBef>
              <a:tabLst>
                <a:tab algn="l" pos="0"/>
                <a:tab algn="l" pos="4459320"/>
                <a:tab algn="l" pos="89186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4B2E2-2670-40BC-A17A-124E89FB3E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805320"/>
            <a:ext cx="11316960" cy="33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59320"/>
                <a:tab algn="l" pos="8918640"/>
              </a:tabLst>
            </a:pP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4725000"/>
            <a:ext cx="5522400" cy="55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4459320"/>
                <a:tab algn="l" pos="89186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427440" y="4725000"/>
            <a:ext cx="5522400" cy="117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4459320"/>
                <a:tab algn="l" pos="89186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8560" y="10842120"/>
            <a:ext cx="5522400" cy="55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4459320"/>
                <a:tab algn="l" pos="89186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54D3C-4C92-4C0A-87D4-24E758DC96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805320"/>
            <a:ext cx="11316960" cy="33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59320"/>
                <a:tab algn="l" pos="8918640"/>
              </a:tabLst>
            </a:pP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8560" y="4725000"/>
            <a:ext cx="5522400" cy="117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4459320"/>
                <a:tab algn="l" pos="89186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427440" y="4725000"/>
            <a:ext cx="5522400" cy="55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4459320"/>
                <a:tab algn="l" pos="89186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427440" y="10842120"/>
            <a:ext cx="5522400" cy="55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4459320"/>
                <a:tab algn="l" pos="89186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6EBC4-D338-4EE4-AD60-9D41A0CB7F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805320"/>
            <a:ext cx="11316960" cy="33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59320"/>
                <a:tab algn="l" pos="8918640"/>
              </a:tabLst>
            </a:pP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4725000"/>
            <a:ext cx="5522400" cy="55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4459320"/>
                <a:tab algn="l" pos="89186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427440" y="4725000"/>
            <a:ext cx="5522400" cy="55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4459320"/>
                <a:tab algn="l" pos="89186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8560" y="10842120"/>
            <a:ext cx="11316960" cy="55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4459320"/>
                <a:tab algn="l" pos="89186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9EDFD-DB88-4580-B853-790AE22FAC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9953640" y="19964160"/>
            <a:ext cx="2619360" cy="228600"/>
          </a:xfrm>
          <a:prstGeom prst="rect">
            <a:avLst/>
          </a:prstGeom>
          <a:noFill/>
          <a:ln w="0">
            <a:noFill/>
          </a:ln>
        </p:spPr>
        <p:txBody>
          <a:bodyPr lIns="204840" rIns="204840" tIns="101520" bIns="10152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497D-86A7-49F2-B45C-AB6891E3DEF6}" type="slidenum">
              <a:rPr b="0" lang="en-GB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18"/>
          <p:cNvGrpSpPr/>
          <p:nvPr/>
        </p:nvGrpSpPr>
        <p:grpSpPr>
          <a:xfrm>
            <a:off x="0" y="17543520"/>
            <a:ext cx="12572640" cy="3098520"/>
            <a:chOff x="0" y="17543520"/>
            <a:chExt cx="12572640" cy="3098520"/>
          </a:xfrm>
        </p:grpSpPr>
        <p:pic>
          <p:nvPicPr>
            <p:cNvPr id="2" name="Picture 13" descr="UoD2001-colourlineonly"/>
            <p:cNvPicPr/>
            <p:nvPr/>
          </p:nvPicPr>
          <p:blipFill>
            <a:blip r:embed="rId2"/>
            <a:stretch/>
          </p:blipFill>
          <p:spPr>
            <a:xfrm>
              <a:off x="2276640" y="17543520"/>
              <a:ext cx="10296000" cy="26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14"/>
            <p:cNvSpPr/>
            <p:nvPr/>
          </p:nvSpPr>
          <p:spPr>
            <a:xfrm>
              <a:off x="2375640" y="18114840"/>
              <a:ext cx="800640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800" spc="-1" strike="noStrike">
                  <a:solidFill>
                    <a:srgbClr val="0f228b"/>
                  </a:solidFill>
                  <a:latin typeface="Book Antiqua"/>
                  <a:ea typeface="宋体"/>
                </a:rPr>
                <a:t>School of Computing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f228b"/>
                  </a:solidFill>
                  <a:latin typeface="Book Antiqua"/>
                  <a:ea typeface="宋体"/>
                </a:rPr>
                <a:t>Honours Projects 201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Picture 15" descr="UoD2001-colour"/>
            <p:cNvPicPr/>
            <p:nvPr/>
          </p:nvPicPr>
          <p:blipFill>
            <a:blip r:embed="rId3"/>
            <a:stretch/>
          </p:blipFill>
          <p:spPr>
            <a:xfrm>
              <a:off x="0" y="17545680"/>
              <a:ext cx="2852280" cy="26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Rectangle 16"/>
            <p:cNvSpPr/>
            <p:nvPr/>
          </p:nvSpPr>
          <p:spPr>
            <a:xfrm>
              <a:off x="9505440" y="18487800"/>
              <a:ext cx="3067200" cy="65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" name="Picture 17" descr="SoClogo"/>
            <p:cNvPicPr/>
            <p:nvPr/>
          </p:nvPicPr>
          <p:blipFill>
            <a:blip r:embed="rId4"/>
            <a:stretch/>
          </p:blipFill>
          <p:spPr>
            <a:xfrm>
              <a:off x="9505440" y="17714520"/>
              <a:ext cx="3067200" cy="21567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0"/>
          <p:cNvSpPr/>
          <p:nvPr/>
        </p:nvSpPr>
        <p:spPr>
          <a:xfrm>
            <a:off x="0" y="0"/>
            <a:ext cx="1257300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ok Antiqua"/>
                <a:ea typeface="宋体"/>
              </a:rPr>
              <a:t>SHERLOCK — Neural Network Software for Problem Solv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2"/>
          <p:cNvSpPr/>
          <p:nvPr/>
        </p:nvSpPr>
        <p:spPr>
          <a:xfrm>
            <a:off x="0" y="2808360"/>
            <a:ext cx="12573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detective Sherlock Holmes is famous for his astute deductive reasoning. In computer science, we model deduction by </a:t>
            </a:r>
            <a:r>
              <a:rPr b="0" lang="en-GB" sz="2800" spc="-1" strike="noStrike">
                <a:solidFill>
                  <a:srgbClr val="009973"/>
                </a:solidFill>
                <a:latin typeface="Times New Roman"/>
                <a:ea typeface="宋体"/>
              </a:rPr>
              <a:t>logic program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0" lang="en-GB" sz="2800" spc="-1" strike="noStrike">
                <a:solidFill>
                  <a:srgbClr val="009973"/>
                </a:solidFill>
                <a:latin typeface="Times New Roman"/>
                <a:ea typeface="宋体"/>
              </a:rPr>
              <a:t>Neural network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 - a model of the human brain - have proven their efficiency in parallel computing and in statistical learning. </a:t>
            </a:r>
            <a:r>
              <a:rPr b="0" lang="en-GB" sz="2800" spc="-1" strike="noStrike">
                <a:solidFill>
                  <a:srgbClr val="009973"/>
                </a:solidFill>
                <a:latin typeface="Times New Roman"/>
                <a:ea typeface="宋体"/>
              </a:rPr>
              <a:t>SHERLOC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is a novel application that combines the tw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3" descr=""/>
          <p:cNvPicPr/>
          <p:nvPr/>
        </p:nvPicPr>
        <p:blipFill>
          <a:blip r:embed="rId1"/>
          <a:stretch/>
        </p:blipFill>
        <p:spPr>
          <a:xfrm>
            <a:off x="2973240" y="9448920"/>
            <a:ext cx="2519640" cy="18000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3" descr=""/>
          <p:cNvPicPr/>
          <p:nvPr/>
        </p:nvPicPr>
        <p:blipFill>
          <a:blip r:embed="rId2"/>
          <a:srcRect l="905" t="1067" r="0" b="0"/>
          <a:stretch/>
        </p:blipFill>
        <p:spPr>
          <a:xfrm>
            <a:off x="309600" y="9448920"/>
            <a:ext cx="2519280" cy="18000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4" descr=""/>
          <p:cNvPicPr/>
          <p:nvPr/>
        </p:nvPicPr>
        <p:blipFill>
          <a:blip r:embed="rId3"/>
          <a:stretch/>
        </p:blipFill>
        <p:spPr>
          <a:xfrm>
            <a:off x="309600" y="11248920"/>
            <a:ext cx="2521080" cy="1150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"/>
          <p:cNvPicPr/>
          <p:nvPr/>
        </p:nvPicPr>
        <p:blipFill>
          <a:blip r:embed="rId4"/>
          <a:stretch/>
        </p:blipFill>
        <p:spPr>
          <a:xfrm>
            <a:off x="2975040" y="11248200"/>
            <a:ext cx="2519280" cy="11509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7" descr=""/>
          <p:cNvPicPr/>
          <p:nvPr/>
        </p:nvPicPr>
        <p:blipFill>
          <a:blip r:embed="rId5"/>
          <a:stretch/>
        </p:blipFill>
        <p:spPr>
          <a:xfrm>
            <a:off x="309600" y="12472920"/>
            <a:ext cx="2535120" cy="1511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"/>
          <p:cNvPicPr/>
          <p:nvPr/>
        </p:nvPicPr>
        <p:blipFill>
          <a:blip r:embed="rId6"/>
          <a:stretch/>
        </p:blipFill>
        <p:spPr>
          <a:xfrm>
            <a:off x="4559400" y="5200560"/>
            <a:ext cx="3022560" cy="2538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"/>
          <p:cNvPicPr/>
          <p:nvPr/>
        </p:nvPicPr>
        <p:blipFill>
          <a:blip r:embed="rId7"/>
          <a:stretch/>
        </p:blipFill>
        <p:spPr>
          <a:xfrm>
            <a:off x="7618320" y="5200560"/>
            <a:ext cx="2340000" cy="3691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"/>
          <p:cNvPicPr/>
          <p:nvPr/>
        </p:nvPicPr>
        <p:blipFill>
          <a:blip r:embed="rId8"/>
          <a:stretch/>
        </p:blipFill>
        <p:spPr>
          <a:xfrm>
            <a:off x="9995040" y="5200560"/>
            <a:ext cx="2340000" cy="3691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"/>
          <p:cNvPicPr/>
          <p:nvPr/>
        </p:nvPicPr>
        <p:blipFill>
          <a:blip r:embed="rId9"/>
          <a:stretch/>
        </p:blipFill>
        <p:spPr>
          <a:xfrm>
            <a:off x="4559400" y="7770960"/>
            <a:ext cx="3022560" cy="1120680"/>
          </a:xfrm>
          <a:prstGeom prst="rect">
            <a:avLst/>
          </a:prstGeom>
          <a:ln w="0">
            <a:noFill/>
          </a:ln>
        </p:spPr>
      </p:pic>
      <p:sp>
        <p:nvSpPr>
          <p:cNvPr id="54" name="矩形 1"/>
          <p:cNvSpPr/>
          <p:nvPr/>
        </p:nvSpPr>
        <p:spPr>
          <a:xfrm>
            <a:off x="237960" y="4738680"/>
            <a:ext cx="12097080" cy="45972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  <a:ea typeface="宋体"/>
              </a:rPr>
              <a:t>SHER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矩形 24"/>
          <p:cNvSpPr/>
          <p:nvPr/>
        </p:nvSpPr>
        <p:spPr>
          <a:xfrm>
            <a:off x="338040" y="8943840"/>
            <a:ext cx="11997000" cy="45972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  <a:ea typeface="宋体"/>
              </a:rPr>
              <a:t>A Knowledge Refining System for Breast Cancer 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3" descr=""/>
          <p:cNvPicPr/>
          <p:nvPr/>
        </p:nvPicPr>
        <p:blipFill>
          <a:blip r:embed="rId10"/>
          <a:stretch/>
        </p:blipFill>
        <p:spPr>
          <a:xfrm>
            <a:off x="5565600" y="9448920"/>
            <a:ext cx="2665440" cy="4535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" descr=""/>
          <p:cNvPicPr/>
          <p:nvPr/>
        </p:nvPicPr>
        <p:blipFill>
          <a:blip r:embed="rId11"/>
          <a:stretch/>
        </p:blipFill>
        <p:spPr>
          <a:xfrm>
            <a:off x="2973240" y="12472920"/>
            <a:ext cx="2519640" cy="151128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309600" y="14028840"/>
            <a:ext cx="12025440" cy="45972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宋体"/>
              </a:rPr>
              <a:t>A New Type of Neural Symbolic Systems for Extended Logic 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2"/>
          <p:cNvSpPr/>
          <p:nvPr/>
        </p:nvSpPr>
        <p:spPr>
          <a:xfrm>
            <a:off x="165240" y="5189400"/>
            <a:ext cx="439236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The application takes a knowledge base (e.g. a </a:t>
            </a:r>
            <a:r>
              <a:rPr b="0" lang="en-GB" sz="2600" spc="-1" strike="noStrike">
                <a:solidFill>
                  <a:srgbClr val="009973"/>
                </a:solidFill>
                <a:latin typeface="Times New Roman"/>
                <a:ea typeface="宋体"/>
              </a:rPr>
              <a:t>crime scene description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) in logic form and compiles it into a neural network that performs massively parallel reasoning over the knowledge base. It outputs solutions translated into logical for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62"/>
          <p:cNvSpPr/>
          <p:nvPr/>
        </p:nvSpPr>
        <p:spPr>
          <a:xfrm>
            <a:off x="8280360" y="9304200"/>
            <a:ext cx="41990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ook Antiqua"/>
                <a:ea typeface="宋体"/>
              </a:rPr>
              <a:t>A novel approach to build  knowledge refining systems based on SHERLOCK has been proposed: Machine learning is used to learn knowledge from data. Coar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knowledge is obtained from the trained neural network by a</a:t>
            </a:r>
            <a:r>
              <a:rPr b="0" lang="en-GB" sz="2200" spc="-1" strike="noStrike">
                <a:solidFill>
                  <a:srgbClr val="000000"/>
                </a:solidFill>
                <a:latin typeface="Book Antiqua"/>
                <a:ea typeface="宋体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pedagogical approach, which then is expressed in the first order language in SHERLOCK. A CILP neural network is obtained and get trained with data so that the embedded knowledge is refin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2"/>
          <p:cNvSpPr/>
          <p:nvPr/>
        </p:nvSpPr>
        <p:spPr>
          <a:xfrm>
            <a:off x="338040" y="14560560"/>
            <a:ext cx="4724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ook Antiqua"/>
                <a:ea typeface="宋体"/>
              </a:rPr>
              <a:t>Extended logic incorporates classical negation. A new type of Neural-Symbolic Systems has been proposed that can translate an extended logic program to a neural network. 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  <a:ea typeface="宋体"/>
              </a:rPr>
              <a:t>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hat is computed  by  the  extended  logic  program   is computed  by  the  neural network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9" descr=""/>
          <p:cNvPicPr/>
          <p:nvPr/>
        </p:nvPicPr>
        <p:blipFill>
          <a:blip r:embed="rId12"/>
          <a:stretch/>
        </p:blipFill>
        <p:spPr>
          <a:xfrm>
            <a:off x="5148360" y="14560560"/>
            <a:ext cx="3514680" cy="1763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0" descr=""/>
          <p:cNvPicPr/>
          <p:nvPr/>
        </p:nvPicPr>
        <p:blipFill>
          <a:blip r:embed="rId13"/>
          <a:stretch/>
        </p:blipFill>
        <p:spPr>
          <a:xfrm>
            <a:off x="5133960" y="16360920"/>
            <a:ext cx="3529080" cy="954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1" descr=""/>
          <p:cNvPicPr/>
          <p:nvPr/>
        </p:nvPicPr>
        <p:blipFill>
          <a:blip r:embed="rId14"/>
          <a:stretch/>
        </p:blipFill>
        <p:spPr>
          <a:xfrm>
            <a:off x="8748720" y="14560560"/>
            <a:ext cx="3514680" cy="1763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2" descr=""/>
          <p:cNvPicPr/>
          <p:nvPr/>
        </p:nvPicPr>
        <p:blipFill>
          <a:blip r:embed="rId15"/>
          <a:stretch/>
        </p:blipFill>
        <p:spPr>
          <a:xfrm>
            <a:off x="8748720" y="16360920"/>
            <a:ext cx="351468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6232680" y="17800560"/>
            <a:ext cx="132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Definite Log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42"/>
          <p:cNvSpPr/>
          <p:nvPr/>
        </p:nvSpPr>
        <p:spPr>
          <a:xfrm>
            <a:off x="9671040" y="17800560"/>
            <a:ext cx="132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Extended Log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图片 4" descr=""/>
          <p:cNvPicPr/>
          <p:nvPr/>
        </p:nvPicPr>
        <p:blipFill>
          <a:blip r:embed="rId16"/>
          <a:stretch/>
        </p:blipFill>
        <p:spPr>
          <a:xfrm>
            <a:off x="10823400" y="87948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72"/>
          <p:cNvSpPr/>
          <p:nvPr/>
        </p:nvSpPr>
        <p:spPr>
          <a:xfrm>
            <a:off x="-50760" y="2174760"/>
            <a:ext cx="1257300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ook Antiqua"/>
                <a:ea typeface="宋体"/>
              </a:rPr>
              <a:t>Supervised by  Dr Katya Komendantskay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61"/>
          <p:cNvSpPr/>
          <p:nvPr/>
        </p:nvSpPr>
        <p:spPr>
          <a:xfrm>
            <a:off x="0" y="1384200"/>
            <a:ext cx="125730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ook Antiqua"/>
                <a:ea typeface="宋体"/>
              </a:rPr>
              <a:t>Qiming</a:t>
            </a:r>
            <a:r>
              <a:rPr b="1" lang="en-GB" sz="4400" spc="-1" strike="noStrike">
                <a:solidFill>
                  <a:srgbClr val="000000"/>
                </a:solidFill>
                <a:latin typeface="Book Antiqua"/>
                <a:ea typeface="宋体"/>
              </a:rPr>
              <a:t>  </a:t>
            </a:r>
            <a:r>
              <a:rPr b="1" lang="en-GB" sz="4000" spc="-1" strike="noStrike">
                <a:solidFill>
                  <a:srgbClr val="000000"/>
                </a:solidFill>
                <a:latin typeface="Book Antiqua"/>
                <a:ea typeface="宋体"/>
              </a:rPr>
              <a:t>Zha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Iain R. Murray</dc:creator>
  <dc:description/>
  <dc:language>en-US</dc:language>
  <cp:lastModifiedBy>admin</cp:lastModifiedBy>
  <cp:lastPrinted>1998-06-10T15:16:31Z</cp:lastPrinted>
  <dcterms:modified xsi:type="dcterms:W3CDTF">2011-04-26T12:14:39Z</dcterms:modified>
  <cp:revision>60</cp:revision>
  <dc:subject/>
  <dc:title>No Slide Title</dc:title>
</cp:coreProperties>
</file>