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2BC-1155-4597-9160-1ED9F97D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BCE-A4ED-4F3D-837B-5EE88138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BAF-8632-47D7-8D49-28B7F155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4A4-BD8E-4612-831C-766506DA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AA1-C6F1-483E-BC27-333CD215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0EC-4CBB-4CE6-BBC0-3C04BFE5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520-2BCF-4DFF-89CD-FF3EB081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29D-A41E-4832-A901-D500FA78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61E-1590-49AA-B77A-3F3CB4E3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DEF-92A7-4FBE-8BD4-8E03F72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727-542A-4F1E-A23A-4899B14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DFE-C688-4394-ABBC-21A90AD4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0AF-8B2B-4A6E-B41F-316153CD5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00120" y="219240"/>
            <a:ext cx="61437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8T22:25:07Z</dcterms:created>
  <dc:creator>Chantler</dc:creator>
  <dc:description/>
  <dc:language>en-US</dc:language>
  <cp:lastModifiedBy>Chantler</cp:lastModifiedBy>
  <dcterms:modified xsi:type="dcterms:W3CDTF">2008-12-29T09:26:25Z</dcterms:modified>
  <cp:revision>2</cp:revision>
  <dc:subject/>
  <dc:title>Slide 1</dc:title>
</cp:coreProperties>
</file>